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77E-6EB0-4879-A54F-66D53866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09B-7178-4B46-ACFE-ADDFFFA2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62C-988C-4AEC-A0D3-AD99BAB6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034-92AA-472A-AE30-71B357DE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2F3-A515-47D1-BB43-F243714A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2A4-A03B-45C4-8239-7F106F2A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935-C96F-4207-89BE-9B75EF3A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1C6-A92B-4ED9-A8CF-BFCBD85B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B33-46D9-468D-8192-B7E1FC78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A2F-F5EC-48BA-A17F-3E0AB9AE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023-4343-40B6-B895-316A9E83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FBA-C641-4941-8725-3EFE00D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67E4-E8AC-4527-AC97-57C7324A4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62136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19640" y="1628640"/>
            <a:ext cx="3167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5:51Z</dcterms:modified>
  <cp:revision>32</cp:revision>
  <dc:subject/>
  <dc:title>SALARIUL</dc:title>
</cp:coreProperties>
</file>